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F0BD-1D46-4D72-A64D-267F840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9358-8587-4FEF-B519-01FE6A41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DA9D-195B-477D-B06D-84D80FC9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BE2B-0473-4E57-9822-CA0F95C5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D227-FABB-4355-B12D-4BE95569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69EC-08A4-4523-8B03-F3018D8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952-7F20-45CE-80D1-E28FFF6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01E-C205-4F1E-A648-7CCEB999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BD6-B1D7-4549-BD2F-42AD16D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3C1-BDC7-460C-B268-1666992C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B3EA-3431-457B-8A68-1BB5B74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A2E9-4E39-467F-92B0-4AB63833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C7B1-0EE2-4AFF-8A27-60F8A66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292-99C7-4F26-9025-C2969F4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09FE-6540-4C22-82B8-B115463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DC0-DCE1-4A42-BCF6-BB748E08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98C-41BE-43AA-9E1B-BEB99014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50EA-9DE2-4FA9-B45B-9B66CC7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2BE3-F8AF-4CB3-8AD8-44C384F5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B975-F7A3-4A03-889F-70C34C5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064C-7498-400A-9370-13A7EDE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6150-765E-40F3-90C9-E4B0468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56F3-DEDC-4A15-BBCD-37248C4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6894-A7E3-40B0-A424-502C57C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021C-A53B-4BD4-BBB0-B5B45520E3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F238-5905-4A6E-9353-8A7018ECAD2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-78120"/>
            <a:ext cx="95774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3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6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вое, Христе, е дело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оето работ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защото е Твое, 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 ще да загин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ърното трябва да умр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и то злак да свий, простр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пазвата на земна твър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 намира там чрез смърт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в земна твър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 намира в смър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-79560"/>
            <a:ext cx="100821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И Ти, Спасителю, страд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и да стигнеш с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сний дом и Свои ча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лед Теб повикаш т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й, Боже, част на всички н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страданията на наший Спас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оди ни в Твойта. светл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акар през смъртна до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светлин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з мрак към светли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-208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И Ти бе скрит във черна пръ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цял свят за да живе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ися Ти горко и на кръс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радост да огр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дай по целий земен ша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знаят Тебе, своя Ца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ители на Твоя пъ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ати и нас във някой къ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стители прати нас в някой къ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11-13T10:23:19Z</dcterms:modified>
  <cp:revision>177</cp:revision>
  <dc:subject/>
  <dc:title>Slide 1</dc:title>
</cp:coreProperties>
</file>